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2025-56E0-4BC5-A044-17BE716F0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FF02-297E-42F3-935F-799839B0E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D13462-5ACE-42DD-8FC9-90F6C8A88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3CD739-F5CB-44C9-9F02-6952E170E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FACB9F-9C64-4492-AEED-4128825BD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674AEA-34F1-416D-83DA-CC9AB2CD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DE7CC5-1ED4-4A7C-B64A-96E5D86FA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E6ACCC-104E-4660-AFFB-C34DEC50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E0B512-91E2-4561-B3DA-9250D63AC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338EF4-629A-4B69-95E3-96B2D6A5F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D4794F-9884-481B-9AE4-1EA6E0194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EE2E8B-BCBB-48B5-8997-0AE005ECA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C3D0-28AB-4E77-BF9C-E40424F67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CCFDE3-462A-4BB1-B64B-4FBB73859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D4F954-56BC-47D1-9854-0CB9FD60E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695598-2CAB-46D4-BCED-2B533A0D4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7CBD9C-C63F-4FEC-BAF6-0634AF63B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4E7D59-6D1C-4397-92B6-1F206C2C0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81726C-96A7-4ECD-ADE3-D9B25A11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23A395-F71F-4084-817A-A9E54E63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766DFA-072F-43A5-82EF-D02290F83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2DA38F-1342-488D-9B1B-CD9F40712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2DFFBA-4F15-4BC4-B17D-E8438A985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D416-B13F-4D46-A319-AC4A80D14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B4BF42-242C-4C9F-8998-A651B214D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D3107B-DBF6-4139-9743-836855CBD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A3CC8A-F3A7-46CA-9CF2-02C33B25E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AEBA48-7992-42D8-9000-1280BDF90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2EDB0C-07DF-412C-AE1C-A295DB351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027964-D70B-4396-973B-2A5A2C9DF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A73B01-5474-4D24-806B-7ACC89432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A3906F-ABA9-49E1-957A-9449ABD4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C2BF83-C2ED-4FE1-9F1D-35562E09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D19E7A-FDE3-40D7-A630-E72948C63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6018FC-7442-4DB8-881A-064503611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499484-7CA2-43D3-9BE3-257B68B19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E873B8-4925-4FB7-AF6D-21AC9FE1D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7741B8-F0A0-4E74-B7F8-91A183B68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2CD94A-8320-41D1-BB46-DDC0C0B9D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7A5BF9-192A-48C0-A072-A37333BCB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426093-F974-4734-A8A9-43E8737A1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11751B-2852-4144-8AC6-041AB6EA1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B1F7E0-F1B4-455E-ABD9-0CD6E7298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FC5115-172C-4314-AAE7-80F256DAF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787218-C9DD-47F9-89AE-FC767F73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107A3B-9EAA-40D9-9D6D-64BC32DFF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4C1248-DAF7-45DB-89D5-B94E916C0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2755C6-A369-4470-A032-13561CE52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C55249-FECF-4F36-AFE8-09DDBD974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788C9B-0007-414A-8F84-DCFF699A7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A64CFE-063C-4B19-8491-2059C56A6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A107FC-2F45-4145-B15E-73E45C72D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16845B-D8DF-4BCC-87EF-6A5DD43DC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B1BB32-44A2-49E6-BA8A-71F9AE385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63BAC2-B86F-458E-9ACB-5DF2F89D6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BBC4B6-FADB-493F-886B-7B4C8279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694C-3153-4ABD-9A15-5BB182871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E16675-F4B2-4332-B677-F66B40517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BBF615-49FC-478C-9AAF-ED03200D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27ED5E-E714-44A0-A353-680C70D9E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C42BB7-FFED-4558-8C4B-A39368083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FCF468-3FAF-4557-9132-A53FDB0F6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4B17A-58FB-4AB0-A4BF-57152A807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BBA53-30C0-4588-9F77-8CE09697F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2FAC8-9BF6-4607-8AA7-24B799991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E5387-0E3C-4BA0-8EF1-6FEC949F8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2AC9B-DB7E-4895-9AD0-720E744F0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E6B0-E469-4D68-B234-C5577E2C7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DD91E-2BD2-404A-9D6D-2FD742E20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F0399-E55E-45E6-B553-E91D5D81B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74864-EAC8-4DE4-8803-255716671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3C13D-79F4-46DB-A5F6-3120FAEAE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473DE-4F07-4117-A01D-353C68051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BC0D6-0EA2-417A-AA21-C32DE3D21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F3C8A-DB50-46A1-A80D-9CEB004EA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4593A-F0D5-4375-90E1-1A5CEBD3B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E6C69-41DD-4A75-86CE-3B9B3FC6A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CC6F0-58C6-415E-8213-65DFE9656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4C37-9E6C-4565-9296-EA82B9192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66B6D-C019-40F5-BBE3-66A616EC8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03C4D-DB2A-4E6F-B756-CBAA3EA7E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F8181-A3DB-43A3-9C02-7B04583A0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19105-BD13-413A-9EEA-AA285985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27552-2429-4795-8ECF-FC0487929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E6D3B-CEAA-4927-B062-C358D675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1F04B-F849-42A3-9EDA-6A0D5B213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3FB57-38C9-4549-8988-C3C4CCEA0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2E89C-147B-45CD-9342-F325F20A8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ADE845-29B5-4486-AFD7-7A12E7F96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AD82-6C33-4DAF-815B-56A9845F2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614460-EBF6-4EFC-A9FC-FA48B815D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2755DE-DF1B-41AF-AC78-0D0A79465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7CD394-8E75-455F-A017-543AEBF70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DD3E46-E7D0-40AC-9C85-D71C19E1A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C971D7-A1D6-41FD-ABC6-23F36EBA4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CC0390-A73D-48DF-B1BD-74CF1F79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EF711D-2DF1-49A7-9D70-A0CA5217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8F4AC0-26B1-4F03-8F41-AEEAF61A5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819553-F451-4A2D-A248-FF51D3218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272801-86DC-4AD6-BAFB-F569DE18B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BF20-007A-4DA5-B565-A9668580D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E510BC-B9DD-4F5E-9127-68F064455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2E06F9-6379-4741-AC46-166060BC8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0CFD93-686D-4E51-8D42-F9F58873C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25FE98-0906-4A58-A9B2-D50F6FAEE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091761-72DA-4A9B-A693-A18CACF9E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B00E3D-56A2-4CE7-852B-5A6CC7C7A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93DFCA-E372-4ADA-81A7-10551D561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44ED88-E157-4E81-9767-AF2AC7CA2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A3CD05-6C3B-418E-921F-72013B826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0C8281-9634-48A6-846E-55556B345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9AED-3F81-4AE7-8A49-8C3223521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6589A-2F3D-44F8-BB72-141A3B093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4637E6-DBA7-4D8C-96A8-19D60B0BC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A4C3E1-69FD-4D9F-8558-A3200E84E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04C300-AC2B-4CE2-9658-B794B5B68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C851E3-40CF-4B64-A742-63F85CD0A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0576A5-4906-49B6-90ED-AAF61F23E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8DBBFE-3D14-4D86-A2F3-ED321E166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7BF8F5-91E8-4EB7-BD45-C43D2B745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57B6A7-AE56-4E34-A504-37DAEE223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CF15E2-711C-457A-87E7-D943DBE0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42F7-0106-4649-86D4-0BC7D0D75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ADF071-FA5E-4F03-8898-51013516E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5BDF42-79B6-481F-B29D-2C2EF31C5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AA060F-560C-4A8B-82D2-72F9BF4AF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31B51D-FC35-446F-925C-28113211B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8F944A-D0E5-4E58-AB53-D02A14072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4041A6-5F5A-47C9-BAE0-CC2404300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930960-E247-43A2-9F16-750AAB643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397FEE-4B6D-45FC-A373-BE608382E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26A256-CCE9-48A8-B56C-093DB6A91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EF9AEB-0ED8-4160-A4FA-27D31B581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69D3-99A3-434E-856A-0EE1D588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4AF1BC-BE69-42A6-9153-BC278496B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D6E279-F0AD-46A4-8D65-AA2988E20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506709-195D-453A-9825-38EBBA26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D443EB-2A54-44CD-9580-75491C44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1FD04C-40C4-4C6C-A7CD-713F757BE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9079FC-C4F5-4F4D-8C18-BAB7E6C0A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789694-8378-4E3B-87CE-CBD988AF9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A22DBE-8841-41E9-A3BE-60F8EA2B5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CCDAA7-E0F5-4334-B4DA-A44111FE9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125F3B-75D0-4DA4-AC3B-91A02FC81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73.xml"/><Relationship Id="rId35" Type="http://schemas.openxmlformats.org/officeDocument/2006/relationships/slideLayout" Target="../slideLayouts/slideLayout74.xml"/><Relationship Id="rId36" Type="http://schemas.openxmlformats.org/officeDocument/2006/relationships/slideLayout" Target="../slideLayouts/slideLayout75.xml"/><Relationship Id="rId37" Type="http://schemas.openxmlformats.org/officeDocument/2006/relationships/slideLayout" Target="../slideLayouts/slideLayout76.xml"/><Relationship Id="rId38" Type="http://schemas.openxmlformats.org/officeDocument/2006/relationships/slideLayout" Target="../slideLayouts/slideLayout77.xml"/><Relationship Id="rId39" Type="http://schemas.openxmlformats.org/officeDocument/2006/relationships/slideLayout" Target="../slideLayouts/slideLayout78.xml"/><Relationship Id="rId40" Type="http://schemas.openxmlformats.org/officeDocument/2006/relationships/slideLayout" Target="../slideLayouts/slideLayout79.xml"/><Relationship Id="rId41" Type="http://schemas.openxmlformats.org/officeDocument/2006/relationships/slideLayout" Target="../slideLayouts/slideLayout80.xml"/><Relationship Id="rId42" Type="http://schemas.openxmlformats.org/officeDocument/2006/relationships/slideLayout" Target="../slideLayouts/slideLayout81.xml"/><Relationship Id="rId43" Type="http://schemas.openxmlformats.org/officeDocument/2006/relationships/slideLayout" Target="../slideLayouts/slideLayout82.xml"/><Relationship Id="rId44" Type="http://schemas.openxmlformats.org/officeDocument/2006/relationships/slideLayout" Target="../slideLayouts/slideLayout83.xml"/><Relationship Id="rId4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slideLayout" Target="../slideLayouts/slideLayout85.xml"/><Relationship Id="rId32" Type="http://schemas.openxmlformats.org/officeDocument/2006/relationships/slideLayout" Target="../slideLayouts/slideLayout86.xml"/><Relationship Id="rId33" Type="http://schemas.openxmlformats.org/officeDocument/2006/relationships/slideLayout" Target="../slideLayouts/slideLayout87.xml"/><Relationship Id="rId34" Type="http://schemas.openxmlformats.org/officeDocument/2006/relationships/slideLayout" Target="../slideLayouts/slideLayout88.xml"/><Relationship Id="rId35" Type="http://schemas.openxmlformats.org/officeDocument/2006/relationships/slideLayout" Target="../slideLayouts/slideLayout89.xml"/><Relationship Id="rId36" Type="http://schemas.openxmlformats.org/officeDocument/2006/relationships/slideLayout" Target="../slideLayouts/slideLayout90.xml"/><Relationship Id="rId37" Type="http://schemas.openxmlformats.org/officeDocument/2006/relationships/slideLayout" Target="../slideLayouts/slideLayout91.xml"/><Relationship Id="rId38" Type="http://schemas.openxmlformats.org/officeDocument/2006/relationships/slideLayout" Target="../slideLayouts/slideLayout92.xml"/><Relationship Id="rId39" Type="http://schemas.openxmlformats.org/officeDocument/2006/relationships/slideLayout" Target="../slideLayouts/slideLayout93.xml"/><Relationship Id="rId40" Type="http://schemas.openxmlformats.org/officeDocument/2006/relationships/slideLayout" Target="../slideLayouts/slideLayout94.xml"/><Relationship Id="rId41" Type="http://schemas.openxmlformats.org/officeDocument/2006/relationships/slideLayout" Target="../slideLayouts/slideLayout95.xml"/><Relationship Id="rId42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51AA9-AD8D-401A-928C-BDA5C0CCE9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6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17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18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31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32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dt" idx="28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6AB0A-6DB5-4C8F-953E-C9ECDA7780C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7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908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909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11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912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14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915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17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918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919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1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922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923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4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5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926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7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8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929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0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1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932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3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4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935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6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7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938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9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0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941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2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3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944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5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6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947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8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9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950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1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2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953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4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5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956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7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8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959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0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1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962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3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4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965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6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7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968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9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0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971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2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3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974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5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6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977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8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9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980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1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2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983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4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85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987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988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9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0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991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2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3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994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5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6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97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8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9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000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1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2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003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4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5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006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7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8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09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0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1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12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3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4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15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6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7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018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9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20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6D289-11D1-4195-AE25-51A28771F824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3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084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085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87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088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089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090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1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2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093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094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5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96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097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8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99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100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1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02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103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4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05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106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7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08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1109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0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11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1112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3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14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1115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6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17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1118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9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20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1121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2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23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1124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5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26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1127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8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29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1130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1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32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1133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4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35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1136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7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38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1139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0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41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1142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3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44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1145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6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47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1148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9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50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1151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2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53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1154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5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56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7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58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1159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0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61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1162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3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64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1165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6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67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1168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9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0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1171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2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3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1174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5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6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1177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8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9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1180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1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82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1183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4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85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1186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7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88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1189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0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191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1192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1193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4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5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6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7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8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00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1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1202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914AF-2FD6-453B-A3CC-04C67BD21D90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A6402-01DF-4865-9758-16E6C0951C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83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40A58-7D02-4231-A07F-84659128611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59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dt" idx="1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ftr" idx="1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0E557-6106-4419-B6D9-A8D678DDF1C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dt" idx="1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ldNum" idx="1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63932-B606-43CC-885F-27D085C9CDE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37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38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3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5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85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86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1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dt" idx="16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ftr" idx="17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8B78C-2E3D-4CFD-BA78-1F81E479E67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334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7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338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339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340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341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43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49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0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1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2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3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4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5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6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57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358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9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0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1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2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3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4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5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6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7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8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9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0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1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2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3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4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5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6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77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1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2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BBD22-3634-4843-82AE-260A78B332F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4"/>
    <p:sldLayoutId id="2147483728" r:id="rId35"/>
    <p:sldLayoutId id="2147483729" r:id="rId36"/>
    <p:sldLayoutId id="2147483730" r:id="rId37"/>
    <p:sldLayoutId id="2147483731" r:id="rId38"/>
    <p:sldLayoutId id="2147483732" r:id="rId39"/>
    <p:sldLayoutId id="2147483733" r:id="rId40"/>
    <p:sldLayoutId id="2147483734" r:id="rId41"/>
    <p:sldLayoutId id="2147483735" r:id="rId42"/>
    <p:sldLayoutId id="2147483736" r:id="rId43"/>
    <p:sldLayoutId id="2147483737" r:id="rId44"/>
    <p:sldLayoutId id="2147483738" r:id="rId4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430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3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434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435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436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437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8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39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445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7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8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9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0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1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2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53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454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5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6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7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8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9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0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1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2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3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4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5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6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7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8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9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0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1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2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73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dt" idx="22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ftr" idx="23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sldNum" idx="24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A4265-CE88-400F-ABEB-CAC8C85C117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1"/>
    <p:sldLayoutId id="2147483741" r:id="rId32"/>
    <p:sldLayoutId id="2147483742" r:id="rId33"/>
    <p:sldLayoutId id="2147483743" r:id="rId34"/>
    <p:sldLayoutId id="2147483744" r:id="rId35"/>
    <p:sldLayoutId id="2147483745" r:id="rId36"/>
    <p:sldLayoutId id="2147483746" r:id="rId37"/>
    <p:sldLayoutId id="2147483747" r:id="rId38"/>
    <p:sldLayoutId id="2147483748" r:id="rId39"/>
    <p:sldLayoutId id="2147483749" r:id="rId40"/>
    <p:sldLayoutId id="2147483750" r:id="rId41"/>
    <p:sldLayoutId id="2147483751" r:id="rId42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25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26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9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40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dt" idx="2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A72F5-8D1C-4E48-81E3-634956B1782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2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2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0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0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2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76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Es una mansion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 Alison Flaher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" dur="1" fill="hold"/>
                                  <p:tgtEl>
                                    <p:spTgt spid="125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l Jardi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Es un jardin. Es muy bello!!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64292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293" name="" descr=""/>
          <p:cNvPicPr/>
          <p:nvPr/>
        </p:nvPicPr>
        <p:blipFill>
          <a:blip r:embed="rId1"/>
          <a:stretch/>
        </p:blipFill>
        <p:spPr>
          <a:xfrm>
            <a:off x="4648320" y="1447920"/>
            <a:ext cx="4114800" cy="4724280"/>
          </a:xfrm>
          <a:prstGeom prst="rect">
            <a:avLst/>
          </a:prstGeom>
          <a:ln w="0">
            <a:noFill/>
          </a:ln>
        </p:spPr>
      </p:pic>
    </p:spTree>
  </p:cSld>
  <p:transition advTm="5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l Fin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296" name="" descr=""/>
          <p:cNvPicPr/>
          <p:nvPr/>
        </p:nvPicPr>
        <p:blipFill>
          <a:blip r:embed="rId1"/>
          <a:stretch/>
        </p:blipFill>
        <p:spPr>
          <a:xfrm>
            <a:off x="4191120" y="1981080"/>
            <a:ext cx="4286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a Mans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 una mansion. Es muy grande y fabulo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1" name="" descr=""/>
          <p:cNvPicPr/>
          <p:nvPr/>
        </p:nvPicPr>
        <p:blipFill>
          <a:blip r:embed="rId2"/>
          <a:stretch/>
        </p:blipFill>
        <p:spPr>
          <a:xfrm>
            <a:off x="4572000" y="1905120"/>
            <a:ext cx="4181400" cy="412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           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La Cocin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 una cocina. Es muy modern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41911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5" name="" descr=""/>
          <p:cNvPicPr/>
          <p:nvPr/>
        </p:nvPicPr>
        <p:blipFill>
          <a:blip r:embed="rId1"/>
          <a:stretch/>
        </p:blipFill>
        <p:spPr>
          <a:xfrm>
            <a:off x="3962520" y="1905120"/>
            <a:ext cx="4762440" cy="4267080"/>
          </a:xfrm>
          <a:prstGeom prst="rect">
            <a:avLst/>
          </a:prstGeom>
          <a:ln w="0">
            <a:noFill/>
          </a:ln>
        </p:spPr>
      </p:pic>
    </p:spTree>
  </p:cSld>
  <p:transition advTm="5000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l Comedo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 un comedor. Es muy grande y purpur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465120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9" name="" descr=""/>
          <p:cNvPicPr/>
          <p:nvPr/>
        </p:nvPicPr>
        <p:blipFill>
          <a:blip r:embed="rId1"/>
          <a:stretch/>
        </p:blipFill>
        <p:spPr>
          <a:xfrm>
            <a:off x="4419720" y="1523880"/>
            <a:ext cx="4476600" cy="4648320"/>
          </a:xfrm>
          <a:prstGeom prst="rect">
            <a:avLst/>
          </a:prstGeom>
          <a:ln w="0">
            <a:noFill/>
          </a:ln>
        </p:spPr>
      </p:pic>
    </p:spTree>
  </p:cSld>
  <p:transition advTm="5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l Cuart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 un cuarto. Es muy increib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3" name="" descr=""/>
          <p:cNvPicPr/>
          <p:nvPr/>
        </p:nvPicPr>
        <p:blipFill>
          <a:blip r:embed="rId1"/>
          <a:stretch/>
        </p:blipFill>
        <p:spPr>
          <a:xfrm>
            <a:off x="4648320" y="1371600"/>
            <a:ext cx="4190760" cy="4876920"/>
          </a:xfrm>
          <a:prstGeom prst="rect">
            <a:avLst/>
          </a:prstGeom>
          <a:ln w="0">
            <a:noFill/>
          </a:ln>
        </p:spPr>
      </p:pic>
    </p:spTree>
  </p:cSld>
  <p:transition advTm="5000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l Baño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Es una baño. Es muy increible!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4292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277" name="" descr=""/>
          <p:cNvPicPr/>
          <p:nvPr/>
        </p:nvPicPr>
        <p:blipFill>
          <a:blip r:embed="rId1"/>
          <a:stretch/>
        </p:blipFill>
        <p:spPr>
          <a:xfrm>
            <a:off x="4648320" y="1523880"/>
            <a:ext cx="4038480" cy="4664160"/>
          </a:xfrm>
          <a:prstGeom prst="rect">
            <a:avLst/>
          </a:prstGeom>
          <a:ln w="0">
            <a:noFill/>
          </a:ln>
        </p:spPr>
      </p:pic>
    </p:spTree>
  </p:cSld>
  <p:transition advTm="5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a Sal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s una sala. Es muy bonita y anaranjad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64472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1" name="" descr=""/>
          <p:cNvPicPr/>
          <p:nvPr/>
        </p:nvPicPr>
        <p:blipFill>
          <a:blip r:embed="rId1"/>
          <a:stretch/>
        </p:blipFill>
        <p:spPr>
          <a:xfrm>
            <a:off x="4343400" y="1523880"/>
            <a:ext cx="4419720" cy="4714920"/>
          </a:xfrm>
          <a:prstGeom prst="rect">
            <a:avLst/>
          </a:prstGeom>
          <a:ln w="0">
            <a:noFill/>
          </a:ln>
        </p:spPr>
      </p:pic>
    </p:spTree>
  </p:cSld>
  <p:transition advTm="5000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       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El Ba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  <a:ea typeface="Arial"/>
              </a:rPr>
              <a:t>ñ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226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Es una ba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Arial"/>
              </a:rPr>
              <a:t>ñ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o. Es muy lujoso!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026960" y="1598760"/>
            <a:ext cx="36226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285" name="" descr=""/>
          <p:cNvPicPr/>
          <p:nvPr/>
        </p:nvPicPr>
        <p:blipFill>
          <a:blip r:embed="rId2"/>
          <a:stretch/>
        </p:blipFill>
        <p:spPr>
          <a:xfrm>
            <a:off x="3657600" y="1523880"/>
            <a:ext cx="4038480" cy="4648320"/>
          </a:xfrm>
          <a:prstGeom prst="rect">
            <a:avLst/>
          </a:prstGeom>
          <a:ln w="0">
            <a:noFill/>
          </a:ln>
        </p:spPr>
      </p:pic>
    </p:spTree>
  </p:cSld>
  <p:transition advTm="5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El Patio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 un patio. Es muy lujos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9" name="" descr=""/>
          <p:cNvPicPr/>
          <p:nvPr/>
        </p:nvPicPr>
        <p:blipFill>
          <a:blip r:embed="rId1"/>
          <a:stretch/>
        </p:blipFill>
        <p:spPr>
          <a:xfrm>
            <a:off x="4572000" y="1523880"/>
            <a:ext cx="4191120" cy="4648320"/>
          </a:xfrm>
          <a:prstGeom prst="rect">
            <a:avLst/>
          </a:prstGeom>
          <a:ln w="0">
            <a:noFill/>
          </a:ln>
        </p:spPr>
      </p:pic>
    </p:spTree>
  </p:cSld>
  <p:transition advTm="5000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0T17:36:29Z</dcterms:created>
  <dc:creator>flahertyali</dc:creator>
  <dc:description/>
  <dc:language>en-US</dc:language>
  <cp:lastModifiedBy>flahertyali</cp:lastModifiedBy>
  <dcterms:modified xsi:type="dcterms:W3CDTF">2011-03-31T17:26:22Z</dcterms:modified>
  <cp:revision>3</cp:revision>
  <dc:subject/>
  <dc:title>Es una masion</dc:title>
</cp:coreProperties>
</file>